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gif" ContentType="image/gif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959F15-9298-4CFD-8A51-3005AD7E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0D8B74-3E5B-46D9-BAF7-26D54B68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 knowledge of the basic structure of the atom: protons,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BCB2D0-9067-4BDC-A771-40719964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5A54A1-07C7-43A1-A7E8-486A3D20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F0A091-4E68-4027-9616-C61238D1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A7C7A4-CC2B-44DB-8CF1-CF425E04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A30823-CE28-4950-B255-D531874B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89D35-F0A3-444C-B9BD-365361C9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operties of waves:  frequency,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5C6C3D-48AF-47EE-BA06-EAB8CB0C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8F50C8-F58A-4959-A460-B5F38A45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616912-2EE1-4285-AF38-21F65A1AC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1A47B2-4C0D-43A3-B177-1F478F698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0F76D7-8952-4E51-A03A-D2089A2BE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7B0C50-5BE2-4621-9206-60987ACB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CDE3E4-64F6-4171-B529-9E7C8D796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E85-B0FA-44C4-8523-6810127F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8D5-7EAA-4CA9-87B2-0CDCF6A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8DD-99F0-49B4-939D-E90C7320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AC7-9D59-47D8-92DC-96CF7377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B949-9870-4A97-B73C-C2DBE7F4FF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DFE16-2F98-4EEC-BB6C-5EBB583A48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D9CD7-0992-4B53-AFF7-FCE441BC67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DB18C-3406-444C-BFC4-666B31E18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62F6C-DE74-4291-83A3-9CAB805573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6887F-8AE6-4511-BFB4-0F533417E7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384DE-A0FC-42BD-A6FE-18E38835A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92F-2E91-473C-BF4D-EFFFD89E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2A20F-CF99-490C-81BE-35CCCCE421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F71F8-459C-4E72-BAFF-B8A2303EFA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C66F-ECC7-42BB-9F3D-20EBEE844E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464C3-18FD-497B-92CD-4A9D779D8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556E1-4E36-436D-A3C9-43A247C0EE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4BC95-8D3E-4A77-87FA-6B7BCBDD66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62D12-5F02-4AFF-897A-F3A7C0A27E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4C8FA0-486E-44EA-A7DD-5FA811B1BE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C18F2-E513-4D3D-871D-A5AC444F65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3F222-9F69-462F-AFCE-85BEA4D08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D19-EF4C-4BE6-81F0-F697A15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6DB16-9AFD-49FB-9074-8EAD35F4A3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9D5BC-921C-4EB7-8FCB-23B69D9C48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874C61-6EEF-427E-9510-36C8054135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BE4980-2374-4AE2-8DE6-336178C591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59494-2FF7-43B2-AC9C-CC4DFCA6570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A271B-C09C-4872-9257-0ABEE20EA4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6A1DD-1B74-48C6-BCE5-EFFDC4A7E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351-0B31-4391-8573-DA3AE589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F2A-E62C-4DBB-BA55-2D3FCE43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81B-0637-4227-B098-D5F0E433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123-25AB-4CBE-878A-6BD8A4DF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383-4367-4A61-8658-289A603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8FB-52A6-4E70-8E93-8FFB2500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E222-BEC2-409A-BB21-0B0F19316CA6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1828800" y="6248160"/>
            <a:ext cx="5486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9676-1316-462F-8118-E1D2D9B2250D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9D01-B3D5-4103-9B69-D7D9CD25DB25}" type="slidenum"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0510/allskymilkyway_brunier_big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Hydrogen in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is the most abundant element in our galax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743200"/>
            <a:ext cx="4944960" cy="32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7"/>
          <p:cNvSpPr/>
          <p:nvPr/>
        </p:nvSpPr>
        <p:spPr>
          <a:xfrm>
            <a:off x="1828800" y="6248520"/>
            <a:ext cx="54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6868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trum line shift tells us the motion of a source (stars, galaxies, gases,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3" descr="doppler_anim2"/>
          <p:cNvPicPr/>
          <p:nvPr/>
        </p:nvPicPr>
        <p:blipFill>
          <a:blip r:embed="rId1"/>
          <a:stretch/>
        </p:blipFill>
        <p:spPr>
          <a:xfrm>
            <a:off x="1676520" y="1676520"/>
            <a:ext cx="5562360" cy="4044960"/>
          </a:xfrm>
          <a:prstGeom prst="rect">
            <a:avLst/>
          </a:prstGeom>
          <a:ln w="0">
            <a:noFill/>
          </a:ln>
        </p:spPr>
      </p:pic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6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hift in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4648320" y="1324080"/>
          <a:ext cx="3886200" cy="15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24080"/>
                    <a:ext cx="3886200" cy="1571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7" name="Object 5"/>
          <p:cNvGraphicFramePr/>
          <p:nvPr/>
        </p:nvGraphicFramePr>
        <p:xfrm>
          <a:off x="4648320" y="4572000"/>
          <a:ext cx="3886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572000"/>
                    <a:ext cx="3886200" cy="1600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4648320" y="2971800"/>
          <a:ext cx="388620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71800"/>
                    <a:ext cx="3886200" cy="1523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1" name="Text Box 7"/>
          <p:cNvSpPr/>
          <p:nvPr/>
        </p:nvSpPr>
        <p:spPr>
          <a:xfrm>
            <a:off x="6818760" y="1981080"/>
            <a:ext cx="1278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0" y="4572000"/>
            <a:ext cx="16002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way observer (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6248520" y="3048120"/>
            <a:ext cx="2209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ving toward  ob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lue</a:t>
            </a:r>
            <a:r>
              <a:rPr b="1" lang="en-US" sz="1800" spc="-1" strike="noStrike">
                <a:solidFill>
                  <a:srgbClr val="00b0f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i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towar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the observer, the spectral line will be shifted to a </a:t>
            </a:r>
            <a:r>
              <a:rPr b="1" i="1" lang="en-US" sz="2600" spc="-1" strike="noStrike">
                <a:solidFill>
                  <a:srgbClr val="3333cc"/>
                </a:solidFill>
                <a:latin typeface="Comic Sans MS"/>
              </a:rPr>
              <a:t>short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the source is moving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awa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from the observer, the spectral line will be shifted to a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onger wavelength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Wavelength and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The relative change in wavelength is related to the sour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s velocit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724280" y="1600200"/>
          <a:ext cx="327672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276720" cy="1380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1" name="Object 5"/>
          <p:cNvGraphicFramePr/>
          <p:nvPr/>
        </p:nvGraphicFramePr>
        <p:xfrm>
          <a:off x="4724280" y="3124080"/>
          <a:ext cx="3276720" cy="140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24080"/>
                    <a:ext cx="3276720" cy="1403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4724280" y="4724280"/>
          <a:ext cx="3276720" cy="143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4724280"/>
                    <a:ext cx="3276720" cy="14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5" name="Text Box 7"/>
          <p:cNvSpPr/>
          <p:nvPr/>
        </p:nvSpPr>
        <p:spPr>
          <a:xfrm>
            <a:off x="6387840" y="1828800"/>
            <a:ext cx="137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181480" y="327672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257800" y="4800600"/>
            <a:ext cx="99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ving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ses of the 21-c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ilky Way has over 3 billion solar masses of hydrogen g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ough hydrogen atoms so that the 21-cm line is easily detected by radio telesco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fore, it is the best way to map the structure of the galax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xample: Rotation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Galaxy rotation and Doppler shifts"/>
          <p:cNvPicPr/>
          <p:nvPr/>
        </p:nvPicPr>
        <p:blipFill>
          <a:blip r:embed="rId1"/>
          <a:stretch/>
        </p:blipFill>
        <p:spPr>
          <a:xfrm>
            <a:off x="5257800" y="2179800"/>
            <a:ext cx="3098880" cy="338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"/>
          <p:cNvSpPr txBox="1"/>
          <p:nvPr/>
        </p:nvSpPr>
        <p:spPr>
          <a:xfrm>
            <a:off x="4648320" y="11430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milkyway"/>
          <p:cNvPicPr/>
          <p:nvPr/>
        </p:nvPicPr>
        <p:blipFill>
          <a:blip r:embed="rId2"/>
          <a:stretch/>
        </p:blipFill>
        <p:spPr>
          <a:xfrm>
            <a:off x="1066680" y="1905120"/>
            <a:ext cx="3784680" cy="378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13" descr="Program Graphic"/>
          <p:cNvPicPr/>
          <p:nvPr/>
        </p:nvPicPr>
        <p:blipFill>
          <a:blip r:embed="rId3"/>
          <a:stretch/>
        </p:blipFill>
        <p:spPr>
          <a:xfrm>
            <a:off x="609480" y="47242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Slide Number Placeholder 8"/>
          <p:cNvSpPr/>
          <p:nvPr/>
        </p:nvSpPr>
        <p:spPr>
          <a:xfrm>
            <a:off x="6705720" y="6248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048120" y="5334120"/>
            <a:ext cx="19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Image from Richard Powell www.atlasoftheuniver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Electronic Energy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45943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emit a photon of light at a specif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velength when an electron falls to a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gy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1" descr="Bohratommodel"/>
          <p:cNvPicPr/>
          <p:nvPr/>
        </p:nvPicPr>
        <p:blipFill>
          <a:blip r:embed="rId1"/>
          <a:stretch/>
        </p:blipFill>
        <p:spPr>
          <a:xfrm>
            <a:off x="2895480" y="1447920"/>
            <a:ext cx="320040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dark line spectrum identifies hydr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g23_spectroscope"/>
          <p:cNvPicPr/>
          <p:nvPr/>
        </p:nvPicPr>
        <p:blipFill>
          <a:blip r:embed="rId1"/>
          <a:srcRect l="0" t="0" r="0" b="11437"/>
          <a:stretch/>
        </p:blipFill>
        <p:spPr>
          <a:xfrm>
            <a:off x="1600200" y="1905120"/>
            <a:ext cx="558468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077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ydrogen is detected using a technique called spectroscop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 Element’s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57200" y="457200"/>
            <a:ext cx="41148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7"/>
          <p:cNvSpPr/>
          <p:nvPr/>
        </p:nvSpPr>
        <p:spPr>
          <a:xfrm>
            <a:off x="533520" y="1523880"/>
            <a:ext cx="807696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n element’s spectrum acts as is its signature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ach line will always appear in the same lo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8" descr="EL_MSES_StarSpectra4"/>
          <p:cNvPicPr/>
          <p:nvPr/>
        </p:nvPicPr>
        <p:blipFill>
          <a:blip r:embed="rId1"/>
          <a:stretch/>
        </p:blipFill>
        <p:spPr>
          <a:xfrm>
            <a:off x="2286000" y="3048120"/>
            <a:ext cx="4302000" cy="30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9"/>
          <p:cNvSpPr/>
          <p:nvPr/>
        </p:nvSpPr>
        <p:spPr>
          <a:xfrm>
            <a:off x="2057400" y="624852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44960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ydrogen only has only one electron spinning around its nucle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How can just a spinning  electron have energy level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Hydrogen atom"/>
          <p:cNvPicPr/>
          <p:nvPr/>
        </p:nvPicPr>
        <p:blipFill>
          <a:blip r:embed="rId1"/>
          <a:stretch/>
        </p:blipFill>
        <p:spPr>
          <a:xfrm>
            <a:off x="4952880" y="1295280"/>
            <a:ext cx="3810240" cy="324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9" descr="Key to atom parts"/>
          <p:cNvPicPr/>
          <p:nvPr/>
        </p:nvPicPr>
        <p:blipFill>
          <a:blip r:embed="rId2"/>
          <a:stretch/>
        </p:blipFill>
        <p:spPr>
          <a:xfrm>
            <a:off x="4876920" y="4678200"/>
            <a:ext cx="3962160" cy="8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4191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electron spin energy of a hydrogen atom is slightly different depending on whether the spins of the proton and electron are in the same direction or opposite directions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kauf25_10"/>
          <p:cNvPicPr/>
          <p:nvPr/>
        </p:nvPicPr>
        <p:blipFill>
          <a:blip r:embed="rId1"/>
          <a:srcRect l="1775" t="0" r="0" b="7016"/>
          <a:stretch/>
        </p:blipFill>
        <p:spPr>
          <a:xfrm>
            <a:off x="4800600" y="1600200"/>
            <a:ext cx="42228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1219320" y="525780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Y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pin of the electron changes from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energy level to  the lower energy o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oton with a wavelength of 21 cm is emi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pinflip-anim"/>
          <p:cNvPicPr/>
          <p:nvPr/>
        </p:nvPicPr>
        <p:blipFill>
          <a:blip r:embed="rId1"/>
          <a:stretch/>
        </p:blipFill>
        <p:spPr>
          <a:xfrm>
            <a:off x="1828800" y="3505320"/>
            <a:ext cx="5392800" cy="26305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7"/>
          <p:cNvSpPr/>
          <p:nvPr/>
        </p:nvSpPr>
        <p:spPr>
          <a:xfrm>
            <a:off x="2209680" y="6172200"/>
            <a:ext cx="4724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61760" y="5943600"/>
            <a:ext cx="40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omic Sans MS"/>
              </a:rPr>
              <a:t>Animation from Nick Strobel’s website www.astronomynote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 21-cm Hydrogen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86448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he 21-cm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pectral Lines and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tral lines can tell us whether the source is stationary or mo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source is moving, the spectral line will be shifted (called a Doppler shi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200c"/>
          <p:cNvPicPr/>
          <p:nvPr/>
        </p:nvPicPr>
        <p:blipFill>
          <a:blip r:embed="rId1"/>
          <a:srcRect l="1816" t="5231" r="3674" b="599"/>
          <a:stretch/>
        </p:blipFill>
        <p:spPr>
          <a:xfrm>
            <a:off x="3733920" y="3492360"/>
            <a:ext cx="411480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Text Box 11"/>
          <p:cNvSpPr/>
          <p:nvPr/>
        </p:nvSpPr>
        <p:spPr>
          <a:xfrm>
            <a:off x="647640" y="38736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at 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609480" y="4635360"/>
            <a:ext cx="291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a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609480" y="554976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ource moving cl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10"/>
          <p:cNvSpPr/>
          <p:nvPr/>
        </p:nvSpPr>
        <p:spPr>
          <a:xfrm>
            <a:off x="1828800" y="6375240"/>
            <a:ext cx="472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11:22Z</dcterms:created>
  <dc:creator>S. Daniel Daugherty II</dc:creator>
  <dc:description/>
  <dc:language>en-US</dc:language>
  <cp:lastModifiedBy>Asus</cp:lastModifiedBy>
  <dcterms:modified xsi:type="dcterms:W3CDTF">2018-03-13T05:28:54Z</dcterms:modified>
  <cp:revision>32</cp:revision>
  <dc:subject/>
  <dc:title>Hydrogen in the Milky Way</dc:title>
</cp:coreProperties>
</file>